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CC9-0930-453F-B550-C45DCD3E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E0A-0B3B-48FC-8993-B1D09020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A2B-4947-4B0F-80C4-48016D62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BEB-79B1-4DE6-B471-594CA380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416-7DFF-4015-8DFE-229C9759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BAE-844D-4AE5-9EFA-B41EE50E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F28-9170-43D6-BC19-1E11705B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1B3-E13A-4C81-BD43-00AC9DAE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4AB-1757-4B8B-AD20-F127A2F7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ABE-C1AD-4E60-8D3C-5DD151AE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EE2-F6D4-4603-8508-55BACBA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EE9-449F-44B1-9604-5CF673F3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AF45-44C7-4B43-A790-1ED6F293E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iết 64. LUYỆN TẬ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HOẠT ĐỘNG 1: KHỞI ĐỘ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À HÌNH THÀNH KIẾN THỨ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3640" y="11793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2193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Nêu các tính chất của phép nhân các số nguy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276720"/>
            <a:ext cx="74678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Làm bài tập 93/SGK. Tính nha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) . (+125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5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8) . (1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246)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246 . 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5843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rả lờ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ác tính chất của phép nhân các số nguyên l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0574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. Tính chất giáo hoá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. b = b . A,  a ;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pl-PL" sz="1800" spc="-1" strike="noStrike">
                <a:solidFill>
                  <a:srgbClr val="333399"/>
                </a:solidFill>
                <a:latin typeface="Arial"/>
              </a:rPr>
              <a:t>. Tính chất kết hợp</a:t>
            </a:r>
            <a:r>
              <a:rPr b="1" lang="pl-PL" sz="1800" spc="-1" strike="noStrike">
                <a:solidFill>
                  <a:srgbClr val="333399"/>
                </a:solidFill>
                <a:latin typeface="Arial"/>
              </a:rPr>
              <a:t>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a . b) . c  =  a (b .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;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;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Nhân với 1</a:t>
            </a: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 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. 1  =  1 . a  =  a,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4. Tính chất phân phối của phép nhân đối với phép cộng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b + c)  =  ab + a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343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iả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) . (+125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5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8) =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5) . (+125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8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100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) .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) = 6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)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8) . (1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246)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246 . 98 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8 + 98 . 246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246 . 98= 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86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HOẠT ĐỘ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YỆN TẬ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948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Bài 92 / SGK/95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: Tí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).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+23(-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).(6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(3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90512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ả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(3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).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+23(-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)  = 20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+ 23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+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0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).(6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7(3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. 67 + 57 . 3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7 . 34 + 67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-57 . 67 + 67 . 57) + (57 . 3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7 . 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4 (57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7) = -3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576600"/>
            <a:ext cx="6781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2) Bài 94 / SGK/95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: Viết các tích sau dưới dạng một lũy thừ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4876920"/>
            <a:ext cx="7696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ả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 = 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 =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6  .  6  .  6  = 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28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OẠT ĐỘ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ẬN DỤ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2120"/>
            <a:ext cx="723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Bài 95 / SGK/95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ải thích vì sao (- 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1. Còn số nguyên nào khác mà lập phương của nó cũng bằng chính nó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81296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ả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 có :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1,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0. Vậy còn các số đó là : 1 và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61792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2) Bài 96 / SGK/95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í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7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) + 26 . 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) + 25 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870360"/>
            <a:ext cx="807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ả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237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) + 26 . 137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37 . 26 + 26 . 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6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7 + 137) = 26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63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) + 25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3 . 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5 . 2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5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3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533520"/>
            <a:ext cx="84582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3) Bài 97 / SGK/95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sá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).1253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với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- 24).(- 15).(- 8).4 với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ướng dẫn: Áp dụng nhận xét về số các thừa số mang dấu “-” trong một tích để xác định dấu của tích rồi so sánh tích với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8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OẠT ĐỘ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ẬN DỤ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2736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ả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).1253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có 4 thừa số nguyên âm nê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) . 1253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13. (- 24).(- 15).(- 8).4 có ba thừa số nguyên âm nê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- 24).(- 15).(- 8).4 &lt;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ưu ý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 Tích chứa một số chẵn thừa số nguyên âm sẽ mang dấu “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 Tích chứa một số lẻ thừa số nguyên âm sẽ mang dấu “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28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OẠT ĐỘ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ẬN DỤ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609480"/>
            <a:ext cx="8153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4) Bài 98 / SGK/96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ính giá trị các biểu thứ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, với a =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.b, với b =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ướng dẫn: Lần lượt thay giá trị của a và b vào hai biểu thức để tí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590920"/>
            <a:ext cx="792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ả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5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0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3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.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.b 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.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) . 20  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2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304920"/>
            <a:ext cx="670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HƯỚNG DẪN HỌC SINH TỰ HỌ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Xem lại các bài đã giả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Ôn lại bội và ước của số tự nhiê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àm các bài tập : 143, 144, 145, 146 trang 7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3 SB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hiên cứu trước bà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Bội và ước của một số nguyê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01:19:03Z</dcterms:created>
  <dc:creator>Admin</dc:creator>
  <dc:description/>
  <dc:language>en-US</dc:language>
  <cp:lastModifiedBy>Admin</cp:lastModifiedBy>
  <dcterms:modified xsi:type="dcterms:W3CDTF">2020-04-13T06:18:55Z</dcterms:modified>
  <cp:revision>19</cp:revision>
  <dc:subject/>
  <dc:title>Slide 1</dc:title>
</cp:coreProperties>
</file>