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35E-BAEF-47B0-8D58-EAC07F14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41E-5D0A-4A8C-8D9E-8B5CC998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299-086B-4AF7-A698-2ABB102E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D9F-FF95-44A0-B477-417887BA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5B6-3E37-442B-97A6-BE1EF748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5B7-2AFB-4F5D-B48E-A121756F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E83-85EC-408F-99B1-F73BBAEB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4E5-5CC2-442F-A8E8-0CED5FBC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A8D-4B56-46C4-9C4C-DEC6429F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0C6-D46F-4457-AEE7-9509ED0D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855-8A99-44CD-97D6-37B048DF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041-3D15-4932-A96A-13E42FCA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0D3F-1547-45BB-99E1-9193A4ECD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28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ết 64: Bài 13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ỘI VÀ ƯỚC CỦA MỘT SỐ NGUYÊ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76212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HOẠT ĐỘNG 1: KHỞI ĐỘNG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Thế nào là bội và ước của một số tự nhiê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0020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ả lờ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ếu có một số tự nhiên a chia hết cho số tự nhiên b thì ta nói : a là bội của b còn b là ước củ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HOẠT ĐỘ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: HÌNH THÀNH KIẾN THỨ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743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ội và ước của một số nguyê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505320"/>
            <a:ext cx="739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2004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ết các số 6, - 6 thành tích của hai số nguy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7696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ả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 = 1.6 = 2.3 = (-1)(-6) = (-2)(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6 = 1.(-6) = (-1).6 = 2(-3) = (-2)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04920" y="4495680"/>
            <a:ext cx="8686800" cy="398880"/>
            <a:chOff x="304920" y="4495680"/>
            <a:chExt cx="8686800" cy="398880"/>
          </a:xfrm>
        </p:grpSpPr>
        <p:sp>
          <p:nvSpPr>
            <p:cNvPr id="50" name=""/>
            <p:cNvSpPr/>
            <p:nvPr/>
          </p:nvSpPr>
          <p:spPr>
            <a:xfrm>
              <a:off x="304920" y="4495680"/>
              <a:ext cx="868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?2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Cho hai số tự nhiên a, b với b    0. Khi nào thì ta nói a chia hết cho b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1" name=""/>
            <p:cNvGraphicFramePr/>
            <p:nvPr/>
          </p:nvGraphicFramePr>
          <p:xfrm>
            <a:off x="4191120" y="4587480"/>
            <a:ext cx="241200" cy="22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1120" y="4587480"/>
                      <a:ext cx="2412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" name=""/>
          <p:cNvSpPr/>
          <p:nvPr/>
        </p:nvSpPr>
        <p:spPr>
          <a:xfrm>
            <a:off x="380880" y="48769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ả lờ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ới hai số tự nhiên a, b với b khác 0. Nếu có số tự nhiên q sao chó a = b.q thì ta nói a chia hết cho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28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ết 64: Bài 13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ỘI VÀ ƯỚC CỦA MỘT SỐ NGUYÊ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094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ội và ước của một số nguyê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10666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  a, b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và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 ≠ 0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ếu có số nguyên q sao cho a = bq thì ta nói a chia hết cho b. Ta còn nói a là bội của b và b là ước của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́ dụ 1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9 là bội của 3 vì -9 = 3.(-3)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2096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ìm hai bội và hai ước của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5909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ả lờ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i bội của 6 là: 12, -12. Hai ước của 6 là: 2, 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97180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ú y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Nếu  a = b.q (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 ≠ 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̀ ta còn nói a chia cho b được q và viết a : b = 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 Số 0 là bội của mọi số nguyên khác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 Số 0 không phải là ước của bất kì số nguyên nà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 Các số 1 và -1 là ước của mọi số nguyê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 Nếu c vừa là ước của a vừa là ước của b thì c cũng được gọi là ước chung của a và 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952880"/>
            <a:ext cx="8305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 dụ 2: a) Các ước của 8 là 1, - 1, 2, - 2, 4, - 4, 8, -,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Các bội của 3 là 0, 3, - 3, 6, - 6, 9, - 9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0666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  a, b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và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 ≠ 0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ếu có số nguyên q sao cho a = bq thì ta nói a chia hết cho b. Ta còn nói a là bội của b và b là ước của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28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ết 64: Bài 13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ỘI VÀ ƯỚC CỦA MỘT SỐ NGUYÊ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6094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ội và ước của một số nguyê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907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  a, b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và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 ≠ 0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ếu có số nguyên q sao cho a = bq thì ta nói a chia hết cho b. Ta còn nói a là bội của b và b là ước của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60020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ú y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Nếu  a = b.q (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 ≠ 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̀ ta còn nói a chia cho b được q và viết a : b = 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 Số 0 là bội của mọi số nguyên khác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 Số 0 không phải là ước của bất kì số nguyên nà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 Các số 1 và -1 là ước của mọi số nguyê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+ Nếu c vừa là ước của a vừa là ước của b thì c cũng được gọi là ước chung của a và 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594240"/>
            <a:ext cx="8686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Tính chấ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Nếu a chia hết cho b và b chia hết cho c thì a cũng chia hết cho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en-US" sz="1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b và b  </a:t>
            </a:r>
            <a:r>
              <a:rPr b="0" lang="en-US" sz="1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a  </a:t>
            </a:r>
            <a:r>
              <a:rPr b="0" lang="en-US" sz="1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Nếu a chia hết cho b thì bội của a cũng chia hết cho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b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am </a:t>
            </a:r>
            <a:r>
              <a:rPr b="0" lang="en-US" sz="1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b  (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Nếu hai số a và b chia hết cho c thì tổng và hiệu của chúng cũng chia hết cho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c và b </a:t>
            </a:r>
            <a:r>
              <a:rPr b="0" lang="en-US" sz="1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c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a + b) </a:t>
            </a:r>
            <a:r>
              <a:rPr b="0" lang="en-US" sz="1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 và 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b) </a:t>
            </a:r>
            <a:r>
              <a:rPr b="0" lang="en-US" sz="1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438280" y="2603520"/>
          <a:ext cx="7632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603520"/>
                    <a:ext cx="763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33520" y="571500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í dụ 3: (SG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28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ết 64: Bài 13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ỘI VÀ ƯỚC CỦA MỘT SỐ NGUYÊ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7621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HOẠT ĐỘ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YỆN TẬ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143000"/>
            <a:ext cx="8077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ài 1: ?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Tìm ba bội của 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Tìm các ước của 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422440"/>
            <a:ext cx="7010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ả lờ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 bội của – 5 là 0, -5,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ác ước của -10 là 1, -1, 2, -2, 5, -5, 10, -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733920"/>
            <a:ext cx="7696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ài 2: (BT 101/sgk/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ìm năm bội của 3, 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572000"/>
            <a:ext cx="7391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ả lờ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ăm bội của 3 là 0, 3, -3, 6, -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ăm bội của -3 là 0, 3, -3, 6, -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28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ết 64: Bài 13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ỘI VÀ ƯỚC CỦA MỘT SỐ NGUYÊ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7621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HOẠT ĐỘ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YỆN TẬ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28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iết 64: Bài 13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ỘI VÀ ƯỚC CỦA MỘT SỐ NGUYÊ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7621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HOẠT ĐỘ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ẬN DỤ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0"/>
          <a:ext cx="123840" cy="1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84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"/>
          <p:cNvGrpSpPr/>
          <p:nvPr/>
        </p:nvGrpSpPr>
        <p:grpSpPr>
          <a:xfrm>
            <a:off x="609480" y="1143000"/>
            <a:ext cx="7620120" cy="1313640"/>
            <a:chOff x="609480" y="1143000"/>
            <a:chExt cx="7620120" cy="1313640"/>
          </a:xfrm>
        </p:grpSpPr>
        <p:sp>
          <p:nvSpPr>
            <p:cNvPr id="85" name=""/>
            <p:cNvSpPr/>
            <p:nvPr/>
          </p:nvSpPr>
          <p:spPr>
            <a:xfrm>
              <a:off x="609480" y="1143000"/>
              <a:ext cx="7620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ài 103/SGK/97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o hai tập hợp số : A = {2; 3; 4; 5; 6}, B = {21; 22; 23}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) Có thể lập được bao nhiêu tổng dạng (a + b) với a   A, b  B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) Trong các tổng trên có bao nhiêu tổng chia hết cho 2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6" name=""/>
            <p:cNvGraphicFramePr/>
            <p:nvPr/>
          </p:nvGraphicFramePr>
          <p:xfrm>
            <a:off x="6705720" y="1905120"/>
            <a:ext cx="126720" cy="12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05720" y="1905120"/>
                      <a:ext cx="126720" cy="12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7351560" y="1905120"/>
            <a:ext cx="127080" cy="126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51560" y="1905120"/>
                      <a:ext cx="127080" cy="12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0" name=""/>
          <p:cNvGrpSpPr/>
          <p:nvPr/>
        </p:nvGrpSpPr>
        <p:grpSpPr>
          <a:xfrm>
            <a:off x="533520" y="2590920"/>
            <a:ext cx="6781680" cy="1326240"/>
            <a:chOff x="533520" y="2590920"/>
            <a:chExt cx="6781680" cy="1326240"/>
          </a:xfrm>
        </p:grpSpPr>
        <p:sp>
          <p:nvSpPr>
            <p:cNvPr id="91" name=""/>
            <p:cNvSpPr/>
            <p:nvPr/>
          </p:nvSpPr>
          <p:spPr>
            <a:xfrm>
              <a:off x="533520" y="2590920"/>
              <a:ext cx="67816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rả lời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ó thể lập được 15 tổng (a + b) với a   A, b  B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250"/>
                </a:spcBef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ó 7 tổng chia hết cho 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" name=""/>
            <p:cNvGraphicFramePr/>
            <p:nvPr/>
          </p:nvGraphicFramePr>
          <p:xfrm>
            <a:off x="5205240" y="3205080"/>
            <a:ext cx="127080" cy="12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05240" y="3205080"/>
                      <a:ext cx="127080" cy="1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"/>
            <p:cNvGraphicFramePr/>
            <p:nvPr/>
          </p:nvGraphicFramePr>
          <p:xfrm>
            <a:off x="5835600" y="3208320"/>
            <a:ext cx="127080" cy="127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35600" y="3208320"/>
                      <a:ext cx="127080" cy="1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28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ƯỚNG DẪN TỰ HỌC Ở NH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83808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ọc theo vở ghi và SG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àm các bài tập 103, 104, 105, 106 / 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Ôn tập lại các nội dung đã học trong chương II để tiết sau ôn tập tiế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06:29:41Z</dcterms:created>
  <dc:creator>Admin</dc:creator>
  <dc:description/>
  <dc:language>en-US</dc:language>
  <cp:lastModifiedBy>Admin</cp:lastModifiedBy>
  <dcterms:modified xsi:type="dcterms:W3CDTF">2020-04-13T08:17:02Z</dcterms:modified>
  <cp:revision>16</cp:revision>
  <dc:subject/>
  <dc:title>Slide 1</dc:title>
</cp:coreProperties>
</file>