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10.wmf" ContentType="image/x-wmf"/>
  <Override PartName="/ppt/media/image9.wmf" ContentType="image/x-wmf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DB2-187E-4B9D-9240-EF8AD869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551-E1D4-4D9F-9C87-FCF88D55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B55-14AB-4065-87F2-0DD67FF6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315-50C4-40FD-B9F1-7EF118DA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45ED-1BC8-4892-807C-2B699604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BB15-C074-4756-A5C8-8BA156B0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C036-9735-4ED4-8DD1-E294CA59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772B-1C9C-4973-8F76-1C4ECDB5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92FB-3B38-40F5-A091-9B5B476C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59D5-BCDE-48EC-8508-02EAD230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FE67-1FEB-4D03-AD4D-9A116A8A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5F5-8287-4054-B90C-5C737140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4EC7-D635-4EB3-BCA5-ABE69E57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A7BC-4B4C-4C2F-957B-B91BB97B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08E5-9665-4174-B9DB-A3165449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B439-F00B-4003-B210-C68F56D5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CF81-5D05-4304-97B3-0B1EECBA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458A-83AB-4B44-A82A-34F72307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EE3B-E223-4D08-8A35-7F9D9C04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E2CC3-F321-4C9F-9F01-5DBD894D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D6D2-1621-44FD-8D96-87B16A85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65F2-3B47-424D-B1C7-3C5E064C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75F-4391-48E4-A251-EF347481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415B-0E3E-4665-9835-8EF4EABD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9F5F3-17C6-403B-9EEB-9B0B114B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B969-63F7-4D7F-88E1-23EFB8FD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C672-78C2-4969-A34B-D685A895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5BE9-E9B7-4534-A0BF-035E8537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9D904-C989-4182-86EB-56ADD834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2ABF-D2C5-421E-B5F5-66717992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CC50-324F-46F9-8C45-2BF96A23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B6BC1-AC8F-4573-8FEB-65C35406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E01F-FA91-44C1-B689-264F52DF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642-3779-4A6B-8BAF-A6CED478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EB448-EC98-4E38-9BCC-F5D442B9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C2FD0-6633-44B9-8E25-3ED5B8B2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A5EEE-C2A5-4A54-B7D8-7B47D5F2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CFB3-8B93-4486-AAD3-A06EF78E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D2A4-8FFD-4BF0-A237-273AF9F4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1913-6614-4249-8D5A-CB1A2218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9E512-ED00-40E8-AF1D-D62DF75D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862C9-C284-40F3-B53A-D4FDF446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58084-1422-4A00-9B66-2D74A839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BEF-88C6-4114-B840-73648BEF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348-2286-483B-9F2E-CAE99B14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173-BFBA-4AEB-908B-97196EFC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48B-5DFE-45B5-903B-C6C27C52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C50-C967-4512-B82D-DB1DDFB3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DD74-6086-4628-A3DA-00C18BD6701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BDDE-954B-40B8-A738-DA365C5AA80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3327-491E-4026-9461-1AE02EB72CE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0705-0B72-465E-982A-0A9BF76AE8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Bai%205%20Tu%20bai%20toan%20den%20chuong%20trinh(t27).ppt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" Target="slide7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Bai%205%20Tu%20bai%20toan%20den%20chuong%20trinh(t27)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TIN HỌC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1337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Tiết 43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BÀI 7: CÂU LỆNH LẶP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4/ Tính tổng và tích bằng câu lệnh lặp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Content Placeholder 2"/>
          <p:cNvSpPr/>
          <p:nvPr/>
        </p:nvSpPr>
        <p:spPr>
          <a:xfrm>
            <a:off x="380880" y="144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Ví dụ 6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hương trình sau đây sẽ tính tích của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ố tự nhiên đầu tiên, với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là số tự nhiên được nhập vào từ bàn phí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867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Bài tậ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/ Sau khi thực hiện đoạn chương trình sau, giá trị của biến x  bằng bao nhiêu? ( giả sử biến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và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đã được khai báo phù hợ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x:=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i:= 2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7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x := x+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x:=2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i:= 1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4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x := x-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793080" y="990720"/>
            <a:ext cx="45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ác em làm bài tập vài v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Bài tậ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/ Các câu lệnh Pascal sau có hợp lệ không, vì sao?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i:=100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writeln('A'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i:=1.5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0.5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writeln('A'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i=1 to 10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writeln('A'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i:=1 to 10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  writeln('A'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133080" y="838080"/>
            <a:ext cx="45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ác em làm bài tập vài v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ặn d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2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ọc lại kỉ phần Cú pháp câu lệnh lặp với số lần biết trước for..do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ìm hiểu trước các bài tập 1-5 sgk trang 60-61 để chuẩn bị cho tiết bài tập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au khi học xong các em làm bài tập vào vở rồi chụp ảnh gửi vào nhóm Fb theo lớp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hắc lại kiến thức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/ Cú pháp câu lệnh lặp với số lần biết trước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nstantia"/>
              </a:rPr>
              <a:t>for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biến đếm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&gt;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&lt;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giá trị đầu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nstantia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&lt;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giá trị cuối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nstantia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câu lệnh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ong đó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nstantia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3200" spc="-1" strike="noStrike">
                <a:solidFill>
                  <a:srgbClr val="cc0000"/>
                </a:solidFill>
                <a:latin typeface="Constantia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3200" spc="-1" strike="noStrike">
                <a:solidFill>
                  <a:srgbClr val="cc0000"/>
                </a:solidFill>
                <a:latin typeface="Constantia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là các từ khoá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biến đếm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: Biến kiểu số nguyên ( integer 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giá trị đầu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giá trị cuối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:  là các giá trị nguyê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gtd&lt;=gtc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47000" y="5751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52280" y="114300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, Ví dụ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:= 1 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Courier New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riteln(‘Xin chao’);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âu lệnh lặp sẽ thực hiện câu lệnh nhiều lần, mỗi lần là một vòng lặ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914400" y="4114800"/>
            <a:ext cx="69343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ố vòng lặp = giá trị cuối – giá trị đầu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460440" y="2362320"/>
            <a:ext cx="773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ết 43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BÀI 7: CÂU LỆNH LẶP (T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4/ Tính tổng và tích bằng câu lệnh lặp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80880" y="1981080"/>
            <a:ext cx="8458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ài toán 1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ính tổng S của N số tự nhiên đầu t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= 1 + 2 + 3 + ... +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80880" y="4114800"/>
            <a:ext cx="8382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ài toán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ính tích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ủa N số tự nhiên đầu t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! = 1.2.3. ... .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5800" y="2301840"/>
            <a:ext cx="4267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.VnTime"/>
              </a:rPr>
              <a:t>B­ 1: 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0; 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85800" y="3733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.VnTime"/>
              </a:rPr>
              <a:t>B­3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i &lt;=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ì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 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S + i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à quay lại 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85800" y="30481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.VnTime"/>
              </a:rPr>
              <a:t>B­2: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 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i + 1;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9"/>
          <p:cNvPicPr/>
          <p:nvPr/>
        </p:nvPicPr>
        <p:blipFill>
          <a:blip r:embed="rId2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7"/>
          <p:cNvSpPr/>
          <p:nvPr/>
        </p:nvSpPr>
        <p:spPr>
          <a:xfrm>
            <a:off x="1676520" y="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hắc lại thuật toán tính tổ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765000" y="4724280"/>
            <a:ext cx="7998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.VnTime"/>
              </a:rPr>
              <a:t>B­4: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ông báo kết quả rồi kết th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0200" y="685800"/>
            <a:ext cx="790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ật toán tính: S = 1 + 2 + 3 + 4 + ... +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ới n được nhập vào từ bàn ph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">
            <a:hlinkClick r:id="rId3"/>
          </p:cNvPr>
          <p:cNvSpPr/>
          <p:nvPr/>
        </p:nvSpPr>
        <p:spPr>
          <a:xfrm>
            <a:off x="8458200" y="6172200"/>
            <a:ext cx="609480" cy="609480"/>
          </a:xfrm>
          <a:prstGeom prst="flowChartSummingJunction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4/ Tính tổng và tích bằng câu lệnh lặp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380880" y="144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Ví dụ 5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hương trình sau đây sẽ tính tổng của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ố tự nhiên đầu tiên, với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là số tự nhiên được nhập vào từ bàn phí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rcRect l="2255" t="5061" r="0" b="0"/>
          <a:stretch/>
        </p:blipFill>
        <p:spPr>
          <a:xfrm>
            <a:off x="380880" y="1905120"/>
            <a:ext cx="8382240" cy="393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8" name="Line 7"/>
          <p:cNvSpPr/>
          <p:nvPr/>
        </p:nvSpPr>
        <p:spPr>
          <a:xfrm>
            <a:off x="1920960" y="2851200"/>
            <a:ext cx="1143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4/ Tính tổng và tích bằng câu lệnh lặp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09480" y="148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ong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Kiểu số nguyên; giống </a:t>
            </a:r>
            <a:r>
              <a:rPr b="0" lang="en-US" sz="3200" spc="-1" strike="noStrike">
                <a:solidFill>
                  <a:srgbClr val="cc0000"/>
                </a:solidFill>
                <a:latin typeface="Lucida Console"/>
              </a:rPr>
              <a:t>i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te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hưng phạm vi giá tri lớn hơn rất nhiề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914400" y="3429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: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38080" y="4648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int :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9"/>
          <p:cNvGraphicFramePr/>
          <p:nvPr/>
        </p:nvGraphicFramePr>
        <p:xfrm>
          <a:off x="2590920" y="3505320"/>
          <a:ext cx="914400" cy="5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505320"/>
                    <a:ext cx="9144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11"/>
          <p:cNvGraphicFramePr/>
          <p:nvPr/>
        </p:nvGraphicFramePr>
        <p:xfrm>
          <a:off x="3962520" y="3505320"/>
          <a:ext cx="120636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505320"/>
                    <a:ext cx="12063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2"/>
          <p:cNvGraphicFramePr/>
          <p:nvPr/>
        </p:nvGraphicFramePr>
        <p:xfrm>
          <a:off x="2666880" y="4648320"/>
          <a:ext cx="91440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648320"/>
                    <a:ext cx="9144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3"/>
          <p:cNvGraphicFramePr/>
          <p:nvPr/>
        </p:nvGraphicFramePr>
        <p:xfrm>
          <a:off x="4038480" y="4648320"/>
          <a:ext cx="1206720" cy="5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4648320"/>
                    <a:ext cx="12067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Left Arrow 1">
            <a:hlinkClick r:id="rId9" action="ppaction://hlinksldjump"/>
          </p:cNvPr>
          <p:cNvSpPr/>
          <p:nvPr/>
        </p:nvSpPr>
        <p:spPr>
          <a:xfrm>
            <a:off x="8582040" y="6524640"/>
            <a:ext cx="547560" cy="27288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685800" y="2301840"/>
            <a:ext cx="4267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.VnTime"/>
              </a:rPr>
              <a:t>B­ 1: 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P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1; 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685800" y="3733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.VnTime"/>
              </a:rPr>
              <a:t>B­3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i &lt;=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ì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 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P * i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à quay lại 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685800" y="30481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.VnTime"/>
              </a:rPr>
              <a:t>B­2: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 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i + 1 ;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9"/>
          <p:cNvPicPr/>
          <p:nvPr/>
        </p:nvPicPr>
        <p:blipFill>
          <a:blip r:embed="rId2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676520" y="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hắc lại thuật toán tính tí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765000" y="4724280"/>
            <a:ext cx="7998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.VnTime"/>
              </a:rPr>
              <a:t>B­4: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ông báo kết quả rồi kết th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374040" y="685800"/>
            <a:ext cx="750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ật toán tính: P = 1 * 2 * 3 * 4 * ... *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ới n được nhập vào từ bàn ph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>
            <a:hlinkClick r:id="rId3"/>
          </p:cNvPr>
          <p:cNvSpPr/>
          <p:nvPr/>
        </p:nvSpPr>
        <p:spPr>
          <a:xfrm>
            <a:off x="8458200" y="6172200"/>
            <a:ext cx="609480" cy="609480"/>
          </a:xfrm>
          <a:prstGeom prst="flowChartSummingJunction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45:51Z</dcterms:created>
  <dc:creator>ISLAND</dc:creator>
  <dc:description/>
  <dc:language>en-US</dc:language>
  <cp:lastModifiedBy>AutoBVT</cp:lastModifiedBy>
  <dcterms:modified xsi:type="dcterms:W3CDTF">2020-04-14T13:02:54Z</dcterms:modified>
  <cp:revision>70</cp:revision>
  <dc:subject/>
  <dc:title>Bài 7: Câu lệnh lặp</dc:title>
</cp:coreProperties>
</file>