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5A53-C9BB-4F93-8E84-9AD1CED7B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D0B-CA9B-424E-8AC6-E09B7843F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3BA6-EDDF-419A-96DE-75B12AD4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92BB-6394-4A07-86A9-C6034F33C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B19-3A4E-4608-8608-15860392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F5F-4CDC-4771-A1AE-C52EA993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434-41EF-48AA-BE85-0C51E136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6FB-7AD7-4DBC-9E77-7CC52A9B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E80-6645-4CFD-BC51-386518A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A71-D2DF-4D9A-B96C-AE5B1196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B94-9C79-46B1-82E8-B3EDCA4D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300-FDBF-405F-AAAF-8F4439DF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2EE-2834-4560-93DA-8DE0783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ECE-8148-44D7-A13F-6B0AEB93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2A8-98AB-4F68-9FEA-3878B732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F6A-93C8-45AF-B2E0-96526D9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1D63-14CC-46BB-89AE-32ACC625A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:\Giao an GVG TP Tin 8-Tuyet\TP\TP1\TP\BIN\TPX.EXE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:\Giao an GVG TP Tin 8-Tuyet\TP\TP1\TP\BIN\TPX.EXE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:\Giao an GVG TP Tin 8-Tuyet\TP\TP1\TP\BIN\TPX.EXE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:\Giao an GVG TP Tin 8-Tuyet\TP\TP1\TP\BIN\TPX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TIN HỌC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337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ết 44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ÀI THỰC HÀNH 5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angnhan12"/>
          <p:cNvPicPr/>
          <p:nvPr/>
        </p:nvPicPr>
        <p:blipFill>
          <a:blip r:embed="rId1"/>
          <a:stretch/>
        </p:blipFill>
        <p:spPr>
          <a:xfrm>
            <a:off x="6477120" y="1387440"/>
            <a:ext cx="2354040" cy="4175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819520" y="23623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Chỉnh sửa chương trình để làm đẹp kết quả như hình b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2514600" y="3733920"/>
            <a:ext cx="3886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-48240" y="1753560"/>
            <a:ext cx="251892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ap so N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ng nhan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1=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2=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3=    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4=  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5=   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6 =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7 =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8=  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  9=  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10=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15480" y="-76320"/>
            <a:ext cx="92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t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ài thực hành 5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bangnhan11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4584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33520" y="1066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an sát chương trình s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720720" y="3809880"/>
            <a:ext cx="476568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 flipH="1">
            <a:off x="3352320" y="4038480"/>
            <a:ext cx="3429000" cy="30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715000" y="3429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ác câu lệnh thêm vào chương trì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2514240" y="4038480"/>
            <a:ext cx="4289400" cy="6858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946080" y="4038480"/>
            <a:ext cx="4616640" cy="1044720"/>
          </a:xfrm>
          <a:prstGeom prst="ellipse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 flipH="1" flipV="1">
            <a:off x="5029200" y="4876920"/>
            <a:ext cx="1295280" cy="761760"/>
          </a:xfrm>
          <a:prstGeom prst="line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248520" y="5486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Câu lệnh ghé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>
            <a:hlinkClick r:id="rId2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15480" y="-76320"/>
            <a:ext cx="92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t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ài thực hành 5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83808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otoXY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38080" y="3327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r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ho biết thứ tự của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ộ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đang có con tr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70120" y="39369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re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ho biết thứ tự của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hàng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đang có con tr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04920" y="4511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* </a:t>
            </a:r>
            <a:r>
              <a:rPr b="1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Lưu ý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Chỉ sử dụng được các lện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GotoXY(a,b), WhereX, Where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au khi đã khai báo thư việ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r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của Pas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04920" y="609480"/>
            <a:ext cx="449568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NỘI DUNG THỰC H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5720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* Tìm hiểu các câu lệnh được thêm và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85800" y="54770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ện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otoXY(5, whereY);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Đưa con trỏ về vị trí cột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củ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àng hiện tạ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066400" y="2209680"/>
            <a:ext cx="58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ạo một hàng trống tại vị trí con tr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2680200" y="2778120"/>
            <a:ext cx="47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Đưa con trỏ về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cột 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hàng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>
            <a:hlinkClick r:id="rId1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15480" y="-76320"/>
            <a:ext cx="92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t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ài thực hành 5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angnhan11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>
            <a:hlinkClick r:id="rId2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895480" y="914400"/>
            <a:ext cx="2752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ỔNG KẾ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04920" y="1981080"/>
            <a:ext cx="8458200" cy="3751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ấu trúc lặp với số lần được biết trước thể hiện bằng lệnh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For …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. Câu lệnh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GotoXY(a,b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ó tác dụng đưa con trỏ về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ột 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hàng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. Hàm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WhereX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ho biết số thứ tự củ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ộ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đang có con tr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. Hàm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WhereY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ho biết số thứ tự củ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àng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đang có con tr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5. Chỉ sử dụng các lệnh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GotoXY, WhereX, WhereY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sau khi khai bá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ư viện cr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ủa Pas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ẶN D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 học thuộc phần “tổng kế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ực hành lại bài nếu có điều kiệ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28600" y="99072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a/ Cú pháp lện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66"/>
                </a:solidFill>
                <a:latin typeface="Arial"/>
              </a:rPr>
              <a:t>FOR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biến đếm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&gt;:=&lt;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giá trị đầu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100" spc="-1" strike="noStrike">
                <a:solidFill>
                  <a:srgbClr val="ff0066"/>
                </a:solidFill>
                <a:latin typeface="Arial"/>
              </a:rPr>
              <a:t>T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giá trị cuố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100" spc="-1" strike="noStrike">
                <a:solidFill>
                  <a:srgbClr val="ff0066"/>
                </a:solidFill>
                <a:latin typeface="Arial"/>
              </a:rPr>
              <a:t>D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câu lện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280" y="19051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ong đ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OR, TO, 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là từ khó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ến đế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huộc kiểu dữ liệu số nguyê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iá trị đầu, giá trị cuố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là giá trị nguyê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âu lệnh: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ó thể là câu lệnh đơn hay câu lệnh ghé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52280" y="472284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/.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Ý nghĩ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hi thực hiện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ến đế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ẽ nhận giá trị là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iá trị đầ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au mỗi vòng lặp, biến đếm sẽ tự động tăng thêm một đơn vị cho đến khi bằn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iá trị cuố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ì dừng lạ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2234520" y="26820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HẮC LẠI KIẾN THỨ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66680" y="990720"/>
          <a:ext cx="5899320" cy="4952880"/>
        </p:xfrm>
        <a:graphic>
          <a:graphicData uri="http://schemas.openxmlformats.org/drawingml/2006/table">
            <a:tbl>
              <a:tblPr/>
              <a:tblGrid>
                <a:gridCol w="1170000"/>
                <a:gridCol w="1219320"/>
                <a:gridCol w="1170000"/>
                <a:gridCol w="1165320"/>
                <a:gridCol w="1174680"/>
              </a:tblGrid>
              <a:tr h="24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  1 =  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  2 =  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  3 =  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  4 =   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  5 =   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  6 =   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  7 =   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  8 =   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  9 =   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 x 10 = 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  1 =  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  2 =   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  3 =   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  4 =   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  5 = 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  6 = 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  7 = 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  8 = 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  9 = 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2 x 10 = 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  1 =  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  2 =   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  3 =   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  4 = 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  5 = 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  6 = 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  7 = 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  8 = 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  9 = 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 x 10 = 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  1 =   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  2 =   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  3 = 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  4 = 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  5 = 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  6 = 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  7 = 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  8 = 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  9 = 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 x 10 = 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  1 =   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  2 = 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  3 = 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  4 = 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  5 = 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  6 = 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  7 = 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  8 = 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  9 = 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x 10 = 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  1 =   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  2 = 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  3 = 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  4 = 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  5 = 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  6 = 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  7 = 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  8 = 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  9 = 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6 x 10 = 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  1 =   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  2 = 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  3 = 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  4 = 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  5 = 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  6 = 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  7 = 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  8 = 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  9 = 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x 10 = 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  1 =   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  2 = 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  3 = 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  4 = 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  5 = 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  6 = 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  7 = 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  8 = 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  9 = 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8 x 10 = 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  1 =   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  2 = 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  3 = 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  4 = 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  5 = 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  6 = 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  7 = 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  8 = 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  9 = 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9 x 10 = 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AutoShape 28"/>
          <p:cNvSpPr/>
          <p:nvPr/>
        </p:nvSpPr>
        <p:spPr>
          <a:xfrm>
            <a:off x="6781680" y="3886200"/>
            <a:ext cx="1676520" cy="1523880"/>
          </a:xfrm>
          <a:prstGeom prst="wedgeRoundRectCallout">
            <a:avLst>
              <a:gd name="adj1" fmla="val -115532"/>
              <a:gd name="adj2" fmla="val -5458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m nào biết đây là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9"/>
          <p:cNvSpPr/>
          <p:nvPr/>
        </p:nvSpPr>
        <p:spPr>
          <a:xfrm>
            <a:off x="4800600" y="914400"/>
            <a:ext cx="5257800" cy="2819520"/>
          </a:xfrm>
          <a:custGeom>
            <a:avLst/>
            <a:gdLst>
              <a:gd name="textAreaLeft" fmla="*/ 1200240 w 5257800"/>
              <a:gd name="textAreaRight" fmla="*/ 4057560 w 525780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ảng cửu ch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3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601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ể yêu cầu máy tính tạo ra cho ta một bảng cửu chương của một số nhất định nào đó ta đi vào nội dung bài thực hành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14400" y="1295280"/>
            <a:ext cx="487692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NỘI DUNG THỰC H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224316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ài 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Viết chương trình in ra màn hình bảng nhân của một số từ 1 đến 9, số được nhập từ bàn phím và dừng màn hình để có thể quan sát kết quả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15480" y="0"/>
            <a:ext cx="92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t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ài thực hành 5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603520" y="1909800"/>
            <a:ext cx="380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984400" y="1909800"/>
            <a:ext cx="381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860640" y="1928880"/>
            <a:ext cx="1067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327480" y="1928880"/>
            <a:ext cx="68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838080" y="175248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2288" y="4000"/>
                </a:lnTo>
                <a:lnTo>
                  <a:pt x="-2288" y="22331"/>
                </a:lnTo>
                <a:lnTo>
                  <a:pt x="43725" y="406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5638680" y="137160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06597"/>
              <a:gd name="adj5" fmla="val 117449"/>
              <a:gd name="adj6" fmla="val -20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5029200" y="1981080"/>
            <a:ext cx="4114800" cy="3124440"/>
          </a:xfrm>
          <a:prstGeom prst="irregularSeal2">
            <a:avLst/>
          </a:prstGeom>
          <a:solidFill>
            <a:srgbClr val="ebf0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a có những biến nà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ần khai bá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52600" y="5796000"/>
            <a:ext cx="2438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Bảng nhân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5410080" y="5562720"/>
            <a:ext cx="2133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657"/>
              <a:gd name="adj5" fmla="val -9634"/>
              <a:gd name="adj6" fmla="val -77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á trị cu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5181480" y="1371600"/>
            <a:ext cx="2133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6754"/>
              <a:gd name="adj5" fmla="val 113425"/>
              <a:gd name="adj6" fmla="val -71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á trị đầ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0" y="609480"/>
            <a:ext cx="57150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ậy để tính bảng nhân 9 này chúng ta thực hiện thế nà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85800" y="38098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642000" y="4616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5562720" y="4267080"/>
            <a:ext cx="26668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>
            <a:hlinkClick r:id="" action="ppaction://hlinkshowjump?jump=lastslide"/>
          </p:cNvPr>
          <p:cNvSpPr/>
          <p:nvPr/>
        </p:nvSpPr>
        <p:spPr>
          <a:xfrm>
            <a:off x="8763120" y="64008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3794" y="20510"/>
                </a:lnTo>
                <a:lnTo>
                  <a:pt x="3794" y="6497"/>
                </a:lnTo>
                <a:close/>
              </a:path>
              <a:path fill="darken" w="21600" h="27006">
                <a:moveTo>
                  <a:pt x="16144" y="6497"/>
                </a:moveTo>
                <a:lnTo>
                  <a:pt x="16144" y="20510"/>
                </a:lnTo>
                <a:lnTo>
                  <a:pt x="17806" y="20510"/>
                </a:lnTo>
                <a:lnTo>
                  <a:pt x="17806" y="64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15480" y="0"/>
            <a:ext cx="92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t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ài thực hành 5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56666 0.42361 E">
                                      <p:cBhvr>
                                        <p:cTn id="15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125 0.47731 E">
                                      <p:cBhvr>
                                        <p:cTn id="15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819520" y="16146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ô tả thuật 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09480" y="236232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ước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hập bảng nhân cần in (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ước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=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ước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ếu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=10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, thì thực hiện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 Quay lại bước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gược lại tiến đến bước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ước 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 bảng nhân và kết thúc vòng lặ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>
            <a:hlinkClick r:id="rId1" action="ppaction://hlinksldjump"/>
          </p:cNvPr>
          <p:cNvSpPr/>
          <p:nvPr/>
        </p:nvSpPr>
        <p:spPr>
          <a:xfrm>
            <a:off x="8763120" y="64008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7301" y="13503"/>
                </a:moveTo>
                <a:lnTo>
                  <a:pt x="17806" y="6497"/>
                </a:lnTo>
                <a:lnTo>
                  <a:pt x="17806" y="20510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5456" y="6497"/>
                </a:lnTo>
                <a:lnTo>
                  <a:pt x="5456" y="20510"/>
                </a:lnTo>
                <a:lnTo>
                  <a:pt x="3794" y="205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5480" y="0"/>
            <a:ext cx="92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t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ài thực hành 5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28600" y="1592280"/>
            <a:ext cx="89154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Bài 1: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n hà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Khởi động Pascal. Gõ chương trình sau và tìm hiểu ý nghĩa của từng câu lệnh trong chương trình (SGK T 62)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066680" y="838080"/>
            <a:ext cx="44960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NỘI DUNG THỰC H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33520" y="4114800"/>
            <a:ext cx="815652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Lưu chương trình với tên BANGNHAN.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Dịch và chỉnh sửa các lỗi gõ, nếu c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Chạy chương trình với các giá trị nhập vào lần lượt bằng 1, 2, …,10. Quan sát kết quả nhận được trên màn hìn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5480" y="-76320"/>
            <a:ext cx="92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t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ài thực hành 5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>
            <a:hlinkClick r:id="rId1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rcRect l="11002" t="19335" r="7846" b="24671"/>
          <a:stretch/>
        </p:blipFill>
        <p:spPr>
          <a:xfrm>
            <a:off x="685800" y="1143000"/>
            <a:ext cx="8001000" cy="5311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15480" y="-76320"/>
            <a:ext cx="92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t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ài thực hành 5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04920" y="9907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ới kết quả in trên màn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ình bên em có nhận xét gì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04920" y="3657600"/>
            <a:ext cx="3886200" cy="2438280"/>
          </a:xfrm>
          <a:prstGeom prst="wedgeRoundRectCallout">
            <a:avLst>
              <a:gd name="adj1" fmla="val 93259"/>
              <a:gd name="adj2" fmla="val -58921"/>
              <a:gd name="adj3" fmla="val 16667"/>
            </a:avLst>
          </a:prstGeom>
          <a:solidFill>
            <a:srgbClr val="ebf0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* Các hàng kết quả sát nhau khó đọ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* Các hàng kết quả không được cân đối với hàng tiêu đ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868360" y="1753560"/>
            <a:ext cx="251892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ap so N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ng nhan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1=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2=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3=    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4=  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5=   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6 =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7 =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8=  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  9=  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x10=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15480" y="-76320"/>
            <a:ext cx="92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ết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ài thực hành 5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LỆNH LẶP FOR..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1:13:23Z</dcterms:created>
  <dc:creator>User</dc:creator>
  <dc:description/>
  <dc:language>en-US</dc:language>
  <cp:lastModifiedBy>AutoBVT</cp:lastModifiedBy>
  <dcterms:modified xsi:type="dcterms:W3CDTF">2020-04-14T13:11:27Z</dcterms:modified>
  <cp:revision>32</cp:revision>
  <dc:subject/>
  <dc:title>Slide 1</dc:title>
</cp:coreProperties>
</file>